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B59-F62A-4934-B831-B31A15A9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00E-0BE3-4FDF-A2E1-F38CAA95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BE4-6EA3-4276-846F-6B27DA31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802D-14DC-46DD-8637-F88C15DB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E78E-6E8C-4238-8EA5-5CC3DA07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D7D3-6182-4B60-8DF6-F363DFF8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3013-C9FD-4A98-B921-F8EB7F44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672B-2EEF-488D-843F-E0C09288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7255-C98D-4176-820E-73CC6C58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51A5-27B0-464E-87E6-702835CD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21C7-2D22-41BA-BA81-F8600A23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968-3768-4D2D-B87C-8B54EB81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D14E-3107-4714-AA54-C4A896CA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5A95-0FAA-4A1F-A654-E60974ED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A526-634F-4B3B-80BC-8CE3C34E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4FCA-A4E4-4939-9410-150965E2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E2F8-24E1-4294-BFC9-AA35DB33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479-0337-4021-990D-54022B50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F1A-0F9F-46F4-8BCD-DB79BF96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71C-6DCB-4D05-971E-833169BD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9EFD-A9D4-4D89-BED9-DEB984B4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AF6C-23DA-4DD7-82E8-C35A2A01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8DB-1929-41CC-BD36-6E56A470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74E-9362-4AAA-918E-0045DFEE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58D3-16BC-4849-AF6C-1E148E5BC7A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51C8-1BB4-4FB3-A04F-520A1EE09E0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szholop@vati.hu" TargetMode="External"/><Relationship Id="rId2" Type="http://schemas.openxmlformats.org/officeDocument/2006/relationships/hyperlink" Target="http://www.hu-sk.cbc.eu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 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-sk.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0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1-25T18:45:50Z</dcterms:modified>
  <cp:revision>30</cp:revision>
  <dc:subject/>
  <dc:title>1. dia</dc:title>
</cp:coreProperties>
</file>